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0C3-F819-4B0F-9ED3-AD507B58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5DA-BAEC-4A7D-B9DE-A60254D0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C55-0537-4578-BCE4-7B33964C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DC2-E18A-450D-B1B2-1100E598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20B-A7D8-4497-BEEA-6219E144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452-EA6B-42B9-8C32-750738BA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857-6041-4E0B-8D0E-0F58BDD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021-C598-4730-94B7-1841F076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DB4-F35C-406D-B5D1-0AFCAFC2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19F-55C5-4FE2-A783-5381C5D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D6B-118E-4F52-8DF5-91145E4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0C2-7C7C-4F06-BA5F-92A61B97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BAF8-29A8-443D-B38E-20C59BC0E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Moon Sh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7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4914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have seen all of these moon shots, create your ow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ork alone or with a partner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create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aper provided to help with your idea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your idea, tell the adult.  Then he/she will take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7188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27:41Z</dcterms:created>
  <dc:creator>KPS</dc:creator>
  <dc:description/>
  <dc:language>en-US</dc:language>
  <cp:lastModifiedBy>KPS</cp:lastModifiedBy>
  <dcterms:modified xsi:type="dcterms:W3CDTF">2011-11-16T20:33:46Z</dcterms:modified>
  <cp:revision>3</cp:revision>
  <dc:subject/>
  <dc:title>Moon Shots</dc:title>
</cp:coreProperties>
</file>